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D125-3CDB-4C5B-9698-32DED5085C69}" type="slidenum"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F103-8970-45D7-A5BC-6FC14DB5EE87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4F9E-AE26-4BEF-B8EB-89702EFCA129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343D-2ADD-46A6-994B-894612543499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E11F-7C03-4CF9-B337-9A6E760C468D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0896-3EF9-4CFE-AB8E-DC80A75FBF7C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08F0-3A60-4DB3-80A5-438F773FEB8A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871D-668A-4EF7-B5BB-2912AF38A433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4D44-BAEA-4788-A90D-44EFA5352878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907B-E5D5-4C0E-812D-91E48721FDB1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1A45-3403-4A31-901E-48C3AC2ABE6D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DE81-BEEA-41AE-8F3D-9C4E88A6E6AE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21E8-5451-49C5-A487-10CC3161D908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DA4C-F5CF-44E3-A177-052D7947D88B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5A80-EE7F-4B59-A461-3EAC103FCDB4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144E-29B3-4951-9255-5B9E76F298DE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0443-B505-4194-9DA6-B8158066F00C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C890-6AC3-439B-8B00-C343C45F1422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BFC3-E24F-4C3B-8B7A-E7246EB79938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3D2A-8C91-48A3-A30D-9A3BA47A5002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097A-290F-4B78-88B3-BA2F5545B2B8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102A-FCF0-460A-A334-A26ADA5A7BF3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05C1-3A00-4299-863F-7B813003F24E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63BF-26C5-4E79-8B68-C5570C191192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8FEE-004A-4EDE-AA87-FBD67AA5420A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58C8-5385-44C3-8CBD-DBF25FA9DB04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B5BC-450B-4ED9-9D0A-D655083F97CB}" type="slidenum"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AD7-1D10-4B55-BFED-99C5F94E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A90-ACA7-4B51-9914-0B362BDE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9B2-94B4-48FF-9DED-78C5D86C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2D9-5CCD-45AD-926C-C76B976B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60DE-8D26-423A-BF6D-5AE7730E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1E5B-7A10-4628-9991-ACA07F7F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D223-4D13-490C-8524-C8D7DB41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0EE2-ECCD-463A-87C6-7C08E988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9AB1-0F02-451C-9597-713C68E8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9E00-9DAD-4C81-BB2C-DC9AC620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95A9-D399-466A-8283-2D97A6D5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E5E-810C-4B7D-8F34-8EF25010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A6D3-3C63-482A-99BB-6388ED29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BE60-08F4-452D-B123-80588EB5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16D4-A3AB-4A49-82F8-30EEF12D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DDD3-B5CD-4134-AB44-46992B99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6B16-F1F9-483E-9C92-D38ECF66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68C-FF15-4A9B-AE63-99BA9DDE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20C4-FA76-47F0-9D06-1CD1F584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B4E-EB4F-48F1-BC31-D4090372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0AB-AD0C-43C3-AA80-466994B0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46F-184F-43DF-A48D-A9B500E7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11B-47C1-47E4-A2F9-55F4A372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BCB-62DC-4376-AB72-F7FCEF00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A57F-F233-41F8-B6DC-894E9B04D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5765-4F55-4F59-BCD1-404A430D88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&#1087;&#1086;&#1089;&#1077;&#1090;&#1080;&#1090;...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4.xml"/><Relationship Id="rId18" Type="http://schemas.openxmlformats.org/officeDocument/2006/relationships/slide" Target="slide14.xml"/><Relationship Id="rId19" Type="http://schemas.openxmlformats.org/officeDocument/2006/relationships/slide" Target="slide13.xml"/><Relationship Id="rId20" Type="http://schemas.openxmlformats.org/officeDocument/2006/relationships/slide" Target="slide13.xml"/><Relationship Id="rId21" Type="http://schemas.openxmlformats.org/officeDocument/2006/relationships/slide" Target="slide16.xml"/><Relationship Id="rId22" Type="http://schemas.openxmlformats.org/officeDocument/2006/relationships/slide" Target="slide17.xml"/><Relationship Id="rId23" Type="http://schemas.openxmlformats.org/officeDocument/2006/relationships/slide" Target="slide18.xml"/><Relationship Id="rId24" Type="http://schemas.openxmlformats.org/officeDocument/2006/relationships/slide" Target="slide20.xml"/><Relationship Id="rId25" Type="http://schemas.openxmlformats.org/officeDocument/2006/relationships/slide" Target="slide19.xml"/><Relationship Id="rId26" Type="http://schemas.openxmlformats.org/officeDocument/2006/relationships/slide" Target="slide4.xml"/><Relationship Id="rId27" Type="http://schemas.openxmlformats.org/officeDocument/2006/relationships/slide" Target="slide22.xml"/><Relationship Id="rId28" Type="http://schemas.openxmlformats.org/officeDocument/2006/relationships/slide" Target="slide5.xml"/><Relationship Id="rId29" Type="http://schemas.openxmlformats.org/officeDocument/2006/relationships/slide" Target="slide23.xml"/><Relationship Id="rId30" Type="http://schemas.openxmlformats.org/officeDocument/2006/relationships/slide" Target="slide6.xml"/><Relationship Id="rId31" Type="http://schemas.openxmlformats.org/officeDocument/2006/relationships/slide" Target="slide24.xml"/><Relationship Id="rId32" Type="http://schemas.openxmlformats.org/officeDocument/2006/relationships/slide" Target="slide8.xml"/><Relationship Id="rId33" Type="http://schemas.openxmlformats.org/officeDocument/2006/relationships/slide" Target="slide26.xml"/><Relationship Id="rId34" Type="http://schemas.openxmlformats.org/officeDocument/2006/relationships/slide" Target="slide7.xml"/><Relationship Id="rId35" Type="http://schemas.openxmlformats.org/officeDocument/2006/relationships/slide" Target="slide25.xml"/><Relationship Id="rId36" Type="http://schemas.openxmlformats.org/officeDocument/2006/relationships/slide" Target="slide4.xml"/><Relationship Id="rId37" Type="http://schemas.openxmlformats.org/officeDocument/2006/relationships/slide" Target="slide5.xml"/><Relationship Id="rId38" Type="http://schemas.openxmlformats.org/officeDocument/2006/relationships/slide" Target="slide10.xml"/><Relationship Id="rId39" Type="http://schemas.openxmlformats.org/officeDocument/2006/relationships/slide" Target="slide11.xml"/><Relationship Id="rId40" Type="http://schemas.openxmlformats.org/officeDocument/2006/relationships/slide" Target="slide6.xml"/><Relationship Id="rId41" Type="http://schemas.openxmlformats.org/officeDocument/2006/relationships/slide" Target="slide7.xml"/><Relationship Id="rId42" Type="http://schemas.openxmlformats.org/officeDocument/2006/relationships/slide" Target="slide8.xml"/><Relationship Id="rId43" Type="http://schemas.openxmlformats.org/officeDocument/2006/relationships/slide" Target="slide14.xml"/><Relationship Id="rId44" Type="http://schemas.openxmlformats.org/officeDocument/2006/relationships/slide" Target="slide13.xml"/><Relationship Id="rId45" Type="http://schemas.openxmlformats.org/officeDocument/2006/relationships/slide" Target="slide12.xml"/><Relationship Id="rId46" Type="http://schemas.openxmlformats.org/officeDocument/2006/relationships/slide" Target="slide20.xml"/><Relationship Id="rId47" Type="http://schemas.openxmlformats.org/officeDocument/2006/relationships/slide" Target="slide19.xml"/><Relationship Id="rId48" Type="http://schemas.openxmlformats.org/officeDocument/2006/relationships/slide" Target="slide18.xml"/><Relationship Id="rId49" Type="http://schemas.openxmlformats.org/officeDocument/2006/relationships/slide" Target="slide17.xml"/><Relationship Id="rId50" Type="http://schemas.openxmlformats.org/officeDocument/2006/relationships/slide" Target="slide16.xml"/><Relationship Id="rId51" Type="http://schemas.openxmlformats.org/officeDocument/2006/relationships/slide" Target="slide22.xml"/><Relationship Id="rId52" Type="http://schemas.openxmlformats.org/officeDocument/2006/relationships/slide" Target="slide23.xml"/><Relationship Id="rId53" Type="http://schemas.openxmlformats.org/officeDocument/2006/relationships/slide" Target="slide24.xml"/><Relationship Id="rId54" Type="http://schemas.openxmlformats.org/officeDocument/2006/relationships/slide" Target="slide25.xml"/><Relationship Id="rId55" Type="http://schemas.openxmlformats.org/officeDocument/2006/relationships/slide" Target="slide26.xml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2502000" y="1854360"/>
            <a:ext cx="4159080" cy="31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раун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812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стоянная циф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еревертыши                                                    1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8" name="Rectangle 7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еревертыши                                                    2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9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иратский алгорит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3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еревертыши                                                    3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3" name="Rectangle 7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384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Цветная клави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еревертыши                                                    4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6" name="Rectangle 7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3840" y="26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сшифровка отсутствие новост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1090800" y="368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2 500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9" name="Rectangle 6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Перевертыши                                                    5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0" name="Rectangle 7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3840" y="280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альное ненастояще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0" y="5094360"/>
            <a:ext cx="9144000" cy="17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3164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6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лавиши                                                            1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5" name="Rectangle 7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82920"/>
            <a:ext cx="82296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i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лавиши                                                            2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8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82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лавиши                                                            3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1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852200"/>
            <a:ext cx="8229600" cy="31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psL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лавиши                                                             4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4" name="Rectangle 6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3900600" y="1650960"/>
            <a:ext cx="900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" action="ppaction://hlinksldjump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1" name="Rectangle 3">
            <a:hlinkClick r:id="rId3" action="ppaction://hlinksldjump"/>
          </p:cNvPr>
          <p:cNvSpPr/>
          <p:nvPr/>
        </p:nvSpPr>
        <p:spPr>
          <a:xfrm>
            <a:off x="4943520" y="1650960"/>
            <a:ext cx="900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4" action="ppaction://hlinksldjump"/>
              </a:rPr>
              <a:t>2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2" name="Rectangle 4">
            <a:hlinkClick r:id="rId5" action="ppaction://hlinksldjump"/>
          </p:cNvPr>
          <p:cNvSpPr/>
          <p:nvPr/>
        </p:nvSpPr>
        <p:spPr>
          <a:xfrm>
            <a:off x="5951520" y="1650960"/>
            <a:ext cx="900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6" action="ppaction://hlinksldjump"/>
              </a:rPr>
              <a:t>3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3" name="Rectangle 5">
            <a:hlinkClick r:id="rId7" action="ppaction://hlinksldjump"/>
          </p:cNvPr>
          <p:cNvSpPr/>
          <p:nvPr/>
        </p:nvSpPr>
        <p:spPr>
          <a:xfrm>
            <a:off x="7967520" y="1650960"/>
            <a:ext cx="900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8" action="ppaction://hlinksldjump"/>
              </a:rPr>
              <a:t>5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4" name="Rectangle 6">
            <a:hlinkClick r:id="rId9" action="ppaction://hlinksldjump"/>
          </p:cNvPr>
          <p:cNvSpPr/>
          <p:nvPr/>
        </p:nvSpPr>
        <p:spPr>
          <a:xfrm>
            <a:off x="6959520" y="1650960"/>
            <a:ext cx="900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10" action="ppaction://hlinksldjump"/>
              </a:rPr>
              <a:t>4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5" name="Rectangle 7">
            <a:hlinkClick r:id="rId11" action="ppaction://hlinksldjump"/>
          </p:cNvPr>
          <p:cNvSpPr/>
          <p:nvPr/>
        </p:nvSpPr>
        <p:spPr>
          <a:xfrm>
            <a:off x="3916440" y="2478240"/>
            <a:ext cx="900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12" action="ppaction://hlinksldjump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6" name="Rectangle 8">
            <a:hlinkClick r:id="rId13" action="ppaction://hlinksldjump"/>
          </p:cNvPr>
          <p:cNvSpPr/>
          <p:nvPr/>
        </p:nvSpPr>
        <p:spPr>
          <a:xfrm>
            <a:off x="4933800" y="2478240"/>
            <a:ext cx="900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14" action="ppaction://hlinksldjump"/>
              </a:rPr>
              <a:t>2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7" name="Rectangle 9">
            <a:hlinkClick r:id="rId15" action="ppaction://hlinksldjump"/>
          </p:cNvPr>
          <p:cNvSpPr/>
          <p:nvPr/>
        </p:nvSpPr>
        <p:spPr>
          <a:xfrm>
            <a:off x="5942160" y="2478240"/>
            <a:ext cx="900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16" action="ppaction://hlinksldjump"/>
              </a:rPr>
              <a:t>3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8" name="Rectangle 10">
            <a:hlinkClick r:id="rId17" action="ppaction://hlinksldjump"/>
          </p:cNvPr>
          <p:cNvSpPr/>
          <p:nvPr/>
        </p:nvSpPr>
        <p:spPr>
          <a:xfrm>
            <a:off x="7958160" y="2478240"/>
            <a:ext cx="900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18" action="ppaction://hlinksldjump"/>
              </a:rPr>
              <a:t>5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9" name="Rectangle 11">
            <a:hlinkClick r:id="rId19" action="ppaction://hlinksldjump"/>
          </p:cNvPr>
          <p:cNvSpPr/>
          <p:nvPr/>
        </p:nvSpPr>
        <p:spPr>
          <a:xfrm>
            <a:off x="6950160" y="2478240"/>
            <a:ext cx="900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0" action="ppaction://hlinksldjump"/>
              </a:rPr>
              <a:t>4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3925800" y="3306600"/>
            <a:ext cx="90036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1" action="ppaction://hlinksldjump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4933800" y="3306600"/>
            <a:ext cx="90036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2" action="ppaction://hlinksldjump"/>
              </a:rPr>
              <a:t>2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5942160" y="3306600"/>
            <a:ext cx="90000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3" action="ppaction://hlinksldjump"/>
              </a:rPr>
              <a:t>3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7958160" y="3306600"/>
            <a:ext cx="90000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4" action="ppaction://hlinksldjump"/>
              </a:rPr>
              <a:t>5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6950160" y="3306600"/>
            <a:ext cx="900000" cy="64800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5" action="ppaction://hlinksldjump"/>
              </a:rPr>
              <a:t>4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5" name="Rectangle 17">
            <a:hlinkClick r:id="rId26" action="ppaction://hlinksldjump"/>
          </p:cNvPr>
          <p:cNvSpPr/>
          <p:nvPr/>
        </p:nvSpPr>
        <p:spPr>
          <a:xfrm>
            <a:off x="3925800" y="4098960"/>
            <a:ext cx="900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7" action="ppaction://hlinksldjump"/>
              </a:rPr>
              <a:t>1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6" name="Rectangle 18">
            <a:hlinkClick r:id="rId28" action="ppaction://hlinksldjump"/>
          </p:cNvPr>
          <p:cNvSpPr/>
          <p:nvPr/>
        </p:nvSpPr>
        <p:spPr>
          <a:xfrm>
            <a:off x="4932360" y="4098960"/>
            <a:ext cx="900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29" action="ppaction://hlinksldjump"/>
              </a:rPr>
              <a:t>2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7" name="Rectangle 19">
            <a:hlinkClick r:id="rId30" action="ppaction://hlinksldjump"/>
          </p:cNvPr>
          <p:cNvSpPr/>
          <p:nvPr/>
        </p:nvSpPr>
        <p:spPr>
          <a:xfrm>
            <a:off x="5940360" y="4098960"/>
            <a:ext cx="900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31" action="ppaction://hlinksldjump"/>
              </a:rPr>
              <a:t>3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8" name="Rectangle 20">
            <a:hlinkClick r:id="rId32" action="ppaction://hlinksldjump"/>
          </p:cNvPr>
          <p:cNvSpPr/>
          <p:nvPr/>
        </p:nvSpPr>
        <p:spPr>
          <a:xfrm>
            <a:off x="7956720" y="4098960"/>
            <a:ext cx="900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33" action="ppaction://hlinksldjump"/>
              </a:rPr>
              <a:t>5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9" name="Rectangle 21">
            <a:hlinkClick r:id="rId34" action="ppaction://hlinksldjump"/>
          </p:cNvPr>
          <p:cNvSpPr/>
          <p:nvPr/>
        </p:nvSpPr>
        <p:spPr>
          <a:xfrm>
            <a:off x="6948360" y="4098960"/>
            <a:ext cx="900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Bookman Old Style"/>
                <a:hlinkClick r:id="rId35" action="ppaction://hlinksldjump"/>
              </a:rPr>
              <a:t>400</a:t>
            </a:r>
            <a:endParaRPr b="0" lang="en-US" sz="3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17800" y="1785960"/>
            <a:ext cx="293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Крылатые слова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142920" y="2441520"/>
            <a:ext cx="2962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Перевертыши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194760" y="3417840"/>
            <a:ext cx="1755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Клавиши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171360" y="4062240"/>
            <a:ext cx="3591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Искомые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термины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216000" y="2406600"/>
            <a:ext cx="860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6000" y="3198960"/>
            <a:ext cx="860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6" name="Line 40"/>
          <p:cNvSpPr/>
          <p:nvPr/>
        </p:nvSpPr>
        <p:spPr>
          <a:xfrm>
            <a:off x="250920" y="4025880"/>
            <a:ext cx="860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7" name="Line 41"/>
          <p:cNvSpPr/>
          <p:nvPr/>
        </p:nvSpPr>
        <p:spPr>
          <a:xfrm>
            <a:off x="250920" y="4818240"/>
            <a:ext cx="860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8" name="Rectangle 44">
            <a:hlinkClick r:id="rId36" action="ppaction://hlinksldjump"/>
          </p:cNvPr>
          <p:cNvSpPr/>
          <p:nvPr/>
        </p:nvSpPr>
        <p:spPr>
          <a:xfrm>
            <a:off x="3897360" y="2127240"/>
            <a:ext cx="85392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9" name="Rectangle 45">
            <a:hlinkClick r:id="rId37" action="ppaction://hlinksldjump"/>
          </p:cNvPr>
          <p:cNvSpPr/>
          <p:nvPr/>
        </p:nvSpPr>
        <p:spPr>
          <a:xfrm>
            <a:off x="4976640" y="2127240"/>
            <a:ext cx="85428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0" name="Rectangle 46">
            <a:hlinkClick r:id="rId38" action="ppaction://hlinksldjump"/>
          </p:cNvPr>
          <p:cNvSpPr/>
          <p:nvPr/>
        </p:nvSpPr>
        <p:spPr>
          <a:xfrm>
            <a:off x="3941640" y="2981160"/>
            <a:ext cx="85428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1" name="Rectangle 47">
            <a:hlinkClick r:id="rId39" action="ppaction://hlinksldjump"/>
          </p:cNvPr>
          <p:cNvSpPr/>
          <p:nvPr/>
        </p:nvSpPr>
        <p:spPr>
          <a:xfrm>
            <a:off x="4976640" y="2981160"/>
            <a:ext cx="85428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2" name="Rectangle 48">
            <a:hlinkClick r:id="rId40" action="ppaction://hlinksldjump"/>
          </p:cNvPr>
          <p:cNvSpPr/>
          <p:nvPr/>
        </p:nvSpPr>
        <p:spPr>
          <a:xfrm>
            <a:off x="5967360" y="2127240"/>
            <a:ext cx="85428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3" name="Rectangle 49">
            <a:hlinkClick r:id="rId41" action="ppaction://hlinksldjump"/>
          </p:cNvPr>
          <p:cNvSpPr/>
          <p:nvPr/>
        </p:nvSpPr>
        <p:spPr>
          <a:xfrm>
            <a:off x="6958080" y="2127240"/>
            <a:ext cx="85392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4" name="Rectangle 50">
            <a:hlinkClick r:id="rId42" action="ppaction://hlinksldjump"/>
          </p:cNvPr>
          <p:cNvSpPr/>
          <p:nvPr/>
        </p:nvSpPr>
        <p:spPr>
          <a:xfrm>
            <a:off x="7993080" y="2127240"/>
            <a:ext cx="85392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5" name="Rectangle 51">
            <a:hlinkClick r:id="rId43" action="ppaction://hlinksldjump"/>
          </p:cNvPr>
          <p:cNvSpPr/>
          <p:nvPr/>
        </p:nvSpPr>
        <p:spPr>
          <a:xfrm>
            <a:off x="7947000" y="2981160"/>
            <a:ext cx="85428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6" name="Rectangle 52">
            <a:hlinkClick r:id="rId44" action="ppaction://hlinksldjump"/>
          </p:cNvPr>
          <p:cNvSpPr/>
          <p:nvPr/>
        </p:nvSpPr>
        <p:spPr>
          <a:xfrm>
            <a:off x="6958080" y="2981160"/>
            <a:ext cx="85392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7" name="Rectangle 53">
            <a:hlinkClick r:id="rId45" action="ppaction://hlinksldjump"/>
          </p:cNvPr>
          <p:cNvSpPr/>
          <p:nvPr/>
        </p:nvSpPr>
        <p:spPr>
          <a:xfrm>
            <a:off x="5967360" y="2981160"/>
            <a:ext cx="85428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8" name="Rectangle 54">
            <a:hlinkClick r:id="rId46" action="ppaction://hlinksldjump"/>
          </p:cNvPr>
          <p:cNvSpPr/>
          <p:nvPr/>
        </p:nvSpPr>
        <p:spPr>
          <a:xfrm>
            <a:off x="7993080" y="3792600"/>
            <a:ext cx="85392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9" name="Rectangle 55">
            <a:hlinkClick r:id="rId47" action="ppaction://hlinksldjump"/>
          </p:cNvPr>
          <p:cNvSpPr/>
          <p:nvPr/>
        </p:nvSpPr>
        <p:spPr>
          <a:xfrm>
            <a:off x="6958080" y="3792600"/>
            <a:ext cx="85392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0" name="Rectangle 56">
            <a:hlinkClick r:id="rId48" action="ppaction://hlinksldjump"/>
          </p:cNvPr>
          <p:cNvSpPr/>
          <p:nvPr/>
        </p:nvSpPr>
        <p:spPr>
          <a:xfrm>
            <a:off x="5967360" y="3792600"/>
            <a:ext cx="85428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1" name="Rectangle 57">
            <a:hlinkClick r:id="rId49" action="ppaction://hlinksldjump"/>
          </p:cNvPr>
          <p:cNvSpPr/>
          <p:nvPr/>
        </p:nvSpPr>
        <p:spPr>
          <a:xfrm>
            <a:off x="4932360" y="3792600"/>
            <a:ext cx="85392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2" name="Rectangle 58">
            <a:hlinkClick r:id="rId50" action="ppaction://hlinksldjump"/>
          </p:cNvPr>
          <p:cNvSpPr/>
          <p:nvPr/>
        </p:nvSpPr>
        <p:spPr>
          <a:xfrm>
            <a:off x="3941640" y="3792600"/>
            <a:ext cx="85428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3" name="Rectangle 59">
            <a:hlinkClick r:id="rId51" action="ppaction://hlinksldjump"/>
          </p:cNvPr>
          <p:cNvSpPr/>
          <p:nvPr/>
        </p:nvSpPr>
        <p:spPr>
          <a:xfrm>
            <a:off x="3941640" y="4602240"/>
            <a:ext cx="85428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4" name="Rectangle 60">
            <a:hlinkClick r:id="rId52" action="ppaction://hlinksldjump"/>
          </p:cNvPr>
          <p:cNvSpPr/>
          <p:nvPr/>
        </p:nvSpPr>
        <p:spPr>
          <a:xfrm>
            <a:off x="4976640" y="4602240"/>
            <a:ext cx="85428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5" name="Rectangle 61">
            <a:hlinkClick r:id="rId53" action="ppaction://hlinksldjump"/>
          </p:cNvPr>
          <p:cNvSpPr/>
          <p:nvPr/>
        </p:nvSpPr>
        <p:spPr>
          <a:xfrm>
            <a:off x="5967360" y="4602240"/>
            <a:ext cx="85428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6" name="Rectangle 62">
            <a:hlinkClick r:id="rId54" action="ppaction://hlinksldjump"/>
          </p:cNvPr>
          <p:cNvSpPr/>
          <p:nvPr/>
        </p:nvSpPr>
        <p:spPr>
          <a:xfrm>
            <a:off x="6958080" y="4602240"/>
            <a:ext cx="85392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7" name="Rectangle 63">
            <a:hlinkClick r:id="rId55" action="ppaction://hlinksldjump"/>
          </p:cNvPr>
          <p:cNvSpPr/>
          <p:nvPr/>
        </p:nvSpPr>
        <p:spPr>
          <a:xfrm>
            <a:off x="7993080" y="4602240"/>
            <a:ext cx="853920" cy="13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859360"/>
            <a:ext cx="91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1640" y="180828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ageUp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67" name="Rectangle 5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лавиши                                                            5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0" y="5094360"/>
            <a:ext cx="9144000" cy="17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8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тот процесс орнитологи называют миграци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4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Искомые термины                                            1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5744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том они торжествовали и радовались, как де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4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Искомые термины                                            2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526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смотря на это его феска не раз падала с голов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4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Искомые термины                                            3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23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Река Днепр интересна тем, что на ней имеется несколько гидроэлектростанций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4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Искомые термины                                            4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84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 просьбе хозяина квартиры мы шкаф сдвинули в уго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4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Искомые термины                                            5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0" y="5094360"/>
            <a:ext cx="9144000" cy="17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5094360"/>
            <a:ext cx="9144000" cy="17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8436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ньше не быва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2" name="Rectangle 5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рылатые слова                                                 1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8120" y="2482920"/>
            <a:ext cx="8229600" cy="18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 образу и подоб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рылатые слова                                                 2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5" name="Rectangle 7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Что имеем – не храним, потерявши  плач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рылатые слова                                                 3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8" name="Rectangle 7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57292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 ошибках учатс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6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рылатые слова                                                 4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1" name="Rectangle 7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к белка в коле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>
            <a:hlinkClick r:id="" action="ppaction://hlinkshowjump?jump=firstslide"/>
          </p:cNvPr>
          <p:cNvSpPr/>
          <p:nvPr/>
        </p:nvSpPr>
        <p:spPr>
          <a:xfrm>
            <a:off x="0" y="54000"/>
            <a:ext cx="912492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man Old Style"/>
              </a:rPr>
              <a:t>Крылатые слова                                                 500</a:t>
            </a:r>
            <a:endParaRPr b="0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4" name="Rectangle 7">
            <a:hlinkClick r:id="rId1" action="ppaction://hlinksldjump"/>
          </p:cNvPr>
          <p:cNvSpPr/>
          <p:nvPr/>
        </p:nvSpPr>
        <p:spPr>
          <a:xfrm>
            <a:off x="0" y="6264360"/>
            <a:ext cx="9144000" cy="59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0" y="5094360"/>
            <a:ext cx="9144000" cy="17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7:03:02Z</dcterms:created>
  <dc:creator>ДК</dc:creator>
  <dc:description/>
  <dc:language>en-US</dc:language>
  <cp:lastModifiedBy>Класс 28</cp:lastModifiedBy>
  <dcterms:modified xsi:type="dcterms:W3CDTF">2010-01-31T10:40:19Z</dcterms:modified>
  <cp:revision>50</cp:revision>
  <dc:subject/>
  <dc:title>Слайд 1</dc:title>
</cp:coreProperties>
</file>